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116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D6B8101E-9046-43DF-9851-7CED577660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6BA3C09-A772-4B02-91B6-1F14ABD1B2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1FAEE88-4E8F-4D47-9D19-B170E0E0E8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406FCA56-2DAC-4333-A197-9BD2F79991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B6F85AC-3E77-4D13-B233-128317F007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C824BBB-8821-4E22-83BA-156AA17B70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C695F93A-367F-4950-988C-0DCD15498B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D60F-E23C-406B-8C39-7D1D8ED09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F855-FFAC-4E01-B267-E22BF049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2B83-D007-451C-8BC5-3DEDF94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693C-2A8E-4107-A3BA-8654BC9C9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E95F-3580-41DF-93D9-E51C23CA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9ADD-C177-4B0D-BBDD-182BFAF6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5F89-7D8F-4691-B4BA-234BB3E2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D567-EFE0-40B7-A35D-78B95FE7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FF23-DE51-4263-85A3-C79865CC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2BFA-C1FC-4469-B3C9-1DDD9BD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589A-A580-4C9E-A7D1-87D56AF7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44DB-A38B-49F8-8E7C-78CE8302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B9DDD1-B01F-4BA3-BA5D-9168FA8A331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                                                                                                                                                          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                                                                            «ГБУЗ Кузнецкая межрайонная больница» поликлиник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93760"/>
          <a:ext cx="8624880" cy="3341880"/>
        </p:xfrm>
        <a:graphic>
          <a:graphicData uri="http://schemas.openxmlformats.org/drawingml/2006/table">
            <a:tbl>
              <a:tblPr/>
              <a:tblGrid>
                <a:gridCol w="39060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4.02 по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2 государственном бюджетном учреждении здравоохранения  «Кузнецкая межрайонная больница» рабочую группу по реализации проекта «Бережливая поликлиника» на территории поликлиники№2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ы  коррекции регистратуры поликлиники и кабинета профилак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для сдачи биологических жидкостей на анализ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на проведение 1 этапа диспансериз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0"/>
            <a:ext cx="8394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460188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ключевых проблем и целей для запуска проекта «Бережливая поликлиника» на собрании коллектива медицинской орган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0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41560"/>
                <a:gridCol w="49716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новых условия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ых посадочных мест для паци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в кабинет прфилактики мебели (стулья, столы, ширм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8238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:                                        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енное квотирование  для сдачи биологических жидкостей на анализ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уководитель проектного офиса           зав.  поликлиникой № 2 Приступ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18T10:20:20Z</cp:lastPrinted>
  <dcterms:modified xsi:type="dcterms:W3CDTF">2019-02-04T13:41:49Z</dcterms:modified>
  <cp:revision>349</cp:revision>
  <dc:subject/>
  <dc:title>Слайд 1</dc:title>
</cp:coreProperties>
</file>